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9E2B-CB16-4CD0-999E-05111C9CB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92FF-9B3C-4BED-B4D0-7DFF250A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526F-8AA1-4B4E-B184-33D4BA47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2DBC-F87A-4AB0-B4E3-35421BAE0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06DB-34D5-4324-82E0-9EEF8415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8669-2296-41CE-91B8-F0392CBB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9C6C-05C3-4D5F-A213-4EE2F1A7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30B1-1ECD-46B6-93FD-DE45C3B1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3455-299F-4E5B-BE89-4BD547CD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9DDF-0B87-4EDD-837C-344D907F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79D2-83E1-4142-A09C-E0AFA203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5B13-463D-4ECE-8FF2-6CC52AF0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3A0B-5683-43B2-8A58-21E56838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9490-6CF3-4C2F-BB90-EBF2CFF7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E678-EF0D-42A2-9ECE-2CC88A5E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84B2-9FCA-4E75-B603-DBFAA6737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7820-4FBC-4181-B15C-F271D724E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7FA4-EFFE-430F-94A6-8C30994C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DFCF-094E-4236-8C24-E7F538AD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43EC-81D0-4ADB-8A59-9ABE0AD3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4921-A2F6-4995-870A-00A9AE4B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C394-E9B9-4A0C-B545-1857562F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FF67-148E-454D-8C9F-126CB6E9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0FB5-C0CB-4B26-B517-19B5CEF7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E6D2-953A-489C-A7CD-C972A86D687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39AD-16E2-4711-8DAE-6E9D148BD67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marttech.com/" TargetMode="External"/><Relationship Id="rId2" Type="http://schemas.openxmlformats.org/officeDocument/2006/relationships/hyperlink" Target="http://www.smarttech.com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2.smarttech.com/st/en-US/Products/SMART+Boards/Front+Projection/600+Series/Video+library.ht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486400" y="380880"/>
            <a:ext cx="4191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Smartboard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1055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eractive Tools to Enhance Instr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uided Practi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pen Notebook Softwa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c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creen Sha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otligh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gnifi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alculat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creen Captu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ras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enn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uided Practi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rst four tools are unavailable because they need to hooked up to a board, however, you can still create lessons and add these once you connect.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ree other tools which are useful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ext Box – this allows you to typ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hapes – This allows you to insert shap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ines – This allows you to insert lines or ray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91320" y="9144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Work Tim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etting Starte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egin to create a minimum six page lesson using Notebook software.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e the tools taught in this lesson in the first few slid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ork Tim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rticipants are working independently to create their less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se lessons will be projected during the final sess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91320" y="8380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Shar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this session, you were shown some tools to use that are part of NoteBook softwar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tools did you like to use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tools do you think you will be using most often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685800" y="-3808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ha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ocusing Questions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can I use Interactive Tools to support and enhance my instruction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91320" y="8380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Instruction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raming Our Wor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979640"/>
            <a:ext cx="731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day we will learn how to use our Smart NoteBook Software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t must be installed.  You can access the software at the 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Smart Technologies, Inc.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Web site.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t’s watch this short video about the Interactive Whiteboard.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ce a few thing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here the instructor stand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ow he interchanges the pen and eraser tool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ow he uses the Interactive Whiteboard rather then his compute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y video from the </a:t>
            </a:r>
            <a:r>
              <a:rPr b="0" lang="en-US" sz="26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Smart Technologies, Inc. Educatio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t’s take a look at some of the tools that are installed in NoteBoo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ce the four op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creen Sha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otligh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gnifi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alculato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 can we use these tools in our instructio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827360"/>
            <a:ext cx="79246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Camera Screen shot Ic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first button selects only what you assign it to select. It is automatically captured and placed on a new pag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cond button selects a FULL screen.  Not just the page but a complete full screen. It automatically was captured and place in a new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third button selects only the page you are working on.  It captures it and automatically places it in a new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19999" t="10000" r="68752" b="78006"/>
          <a:stretch/>
        </p:blipFill>
        <p:spPr>
          <a:xfrm>
            <a:off x="6934320" y="152280"/>
            <a:ext cx="2057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y are there three capture tool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y would you need these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ras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ree options of levels of thicknes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ble to erase on pe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able to erase on pages with a screen sho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subject area teacher can really benefit from this time saving tool, as he/she might teach multiple classes the same lesson.  Would only need to write your focus of the day once 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ine Mazza</cp:lastModifiedBy>
  <dcterms:modified xsi:type="dcterms:W3CDTF">2008-09-19T16:31:15Z</dcterms:modified>
  <cp:revision>13</cp:revision>
  <dc:subject/>
  <dc:title>Interactive Tools to Enhance Instruction </dc:title>
</cp:coreProperties>
</file>